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066-3146-4074-A34A-17CFA7D9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594-E59B-4FC8-80AA-D2D893F1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7A7-3CB0-47C9-BCA1-067AAD4F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E44-D714-4A86-9BB5-ADDC14A7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708-7D3A-4699-8D51-31AFA8BB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D14-DE60-4258-B16D-6F6D1CE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CE2-A846-4CCC-BF19-A0886C5B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EEF-D6A9-4001-896A-68E474BE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905-CFEA-4158-BB5E-EEE2EDDC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426-347E-4447-8070-7B59E228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0C3-1240-49CC-A6AE-0778BB4D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9E9-118C-4500-82F0-002654C9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074F-8931-4FAA-BFE8-48452070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s.SP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772400" cy="4916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410080" y="640080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age: http://rayfo.co.uk/page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935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of the following is a reason Irish immigrants were treated poor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971800"/>
            <a:ext cx="79250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skillfulness in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history of attacking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poverty and willingness to wor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low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sk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93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immigration to the United States in the middle 1800s affect city lif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276720"/>
            <a:ext cx="830592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a more equal distribution of w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the growth of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urb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ended the reform mov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93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long did most unskilled laborer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276720"/>
            <a:ext cx="792468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hours a day, six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hours a day, seven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 hours a day, seven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 hours a day, seven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93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period 1840-1860 which countries supplied the largest numbers of immigrants into the United States? (CCS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048120"/>
            <a:ext cx="53341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 and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many and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aly and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xico and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3352680" cy="1828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does the political cartoon sh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21020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6951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 of a new law limiting immigr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951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ed for skilled immigrants to fill jobs created by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om after th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951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re of reformers to provide social service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951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agerness of the government to settle immigra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and rater than the eastern industrial cit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1036" t="0" r="30793" b="0"/>
          <a:stretch/>
        </p:blipFill>
        <p:spPr>
          <a:xfrm>
            <a:off x="3429000" y="0"/>
            <a:ext cx="5715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686800" cy="1219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ree important changes in the pattern of immigration to the U.S. from 1854 to 1907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0" t="6110" r="10858" b="0"/>
          <a:stretch/>
        </p:blipFill>
        <p:spPr>
          <a:xfrm>
            <a:off x="533520" y="0"/>
            <a:ext cx="86104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534520" cy="1904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ain why one of the changes you identified happene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efer to previous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2:43:19Z</dcterms:created>
  <dc:creator>Magner</dc:creator>
  <dc:description/>
  <dc:language>en-US</dc:language>
  <cp:lastModifiedBy>Magner</cp:lastModifiedBy>
  <dcterms:modified xsi:type="dcterms:W3CDTF">2009-08-30T22:06:47Z</dcterms:modified>
  <cp:revision>11</cp:revision>
  <dc:subject/>
  <dc:title>Slide 1</dc:title>
</cp:coreProperties>
</file>